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957-5507-4EA9-8843-69A2D0EE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276-8826-4707-8F41-2E30733B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483-2294-451D-B54C-7F8DB543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0E4-E914-4DC2-A6F1-AE6CA180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5658-4736-4FAE-98E4-50503AF0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83FA-13F4-4A78-B39F-C27DACC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D2A3-5014-461C-9735-1CA5B1C7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5C6-1C58-446F-A1ED-03E7B5D2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9BE-8913-4735-A2E5-A8FAD59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38B-2353-4B9C-B1B5-652554B4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DE07-DAAD-4B8C-A426-94BEA4A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2D7-D015-4D0A-81BB-74B09CF2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481F-E27A-4566-BE6A-F58A8D7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C49-AF58-49A2-92F8-9B04D544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BC5E-45E3-4BB5-95F4-4D39A79F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7B4B-5554-4841-B82C-64107CEB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22E6-5A3A-42D5-879A-73B5D42C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59E-40C5-4931-8E0B-FE6D68D5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AA2-B688-4B3E-A3C4-3AC10D3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675-AB0D-4B80-AC1D-8CA5AA69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5E5-CFB6-4F6C-B652-5469561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115-BAAE-4CE3-A96F-8ED60A2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258-36AD-4771-9360-8F891BD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6C2-8B30-4478-8A26-505E55FB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53F-A8CC-4178-ABDC-D135E58C21B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556A-8B3D-4ACD-BFC1-E38A06A861C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ing Bookreports to my wi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directions should help you post your bookreport on my wi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you join my wiki if you haven’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see “join this wiki” at the top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you’ve joined, go to the “Bookreport Coffee Shop” page on my wi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’re there, click on the “edit” tab that is on the top right side of the p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GLO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your glo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bottom (toward the right) is a choice to “embed in your pag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on th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hit the “copy” button next to the long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back to the book report coffee shop page on my wiki where you’ve hit ed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on the little tv-looking thing that says embed widg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on “other” at the bottom of the screen that comes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in the box for the code and hit “paste” (apple-v on ma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hit SAVE on the edit bar of the wik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OWER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ve your powerpoint on your desktop (don’t have to do this but it’s probably easiest this w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to the edit bar on the wiki page and click on the icon that looks like a picture and says “insert images or fil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the upload files blue underlined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your powerpoint from the deskt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hen it shows up on that box, click on it (as the directions say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it save on the wiki edit 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50:57Z</dcterms:created>
  <dc:creator>Calvary</dc:creator>
  <dc:description/>
  <dc:language>en-US</dc:language>
  <cp:lastModifiedBy>Calvary</cp:lastModifiedBy>
  <dcterms:modified xsi:type="dcterms:W3CDTF">2009-11-12T20:26:35Z</dcterms:modified>
  <cp:revision>4</cp:revision>
  <dc:subject/>
  <dc:title>Adding Bookreports to my wiki</dc:title>
</cp:coreProperties>
</file>